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720-4A8E-42E6-BAA1-F8A5251B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0B7-6623-453C-8225-C90CC458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1F1-EEED-4BD8-A1F6-C5F603C8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27F-6EEA-4256-9754-53A916C6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C829-D75E-4A1A-B123-9BAF0515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B6E1-2B3A-4BFA-B268-FA3F39B8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9EF3-7166-40B6-A124-B6A3410A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E040-9701-4CD5-9DA6-CDBD3360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68C4-7544-4CE6-80DB-182D2F52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941C-B37E-4B0F-A528-244D145C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B553-AD85-4CFE-B563-A7706EC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91E-E222-42B4-9FE2-235E68E3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C653-81E3-436B-995A-D476DE1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40C2-2BE1-4128-867B-0DEFCDA3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8581-14DB-47B1-8157-C2CC2C79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046B-4E10-45F8-93C4-0B50D610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24DB-0ED4-4833-9E0A-A17070C1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3A4-0BFB-4464-8FDE-5D511432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979-2907-4E1A-B570-A71F82B9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F08-FB73-4EEF-BBF1-44099836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B8D-ADD2-4AC6-BE5C-242C4E67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A91-9DFA-4097-8B70-28572BF5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9FD-709D-45F5-8EA9-A64091BC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A42-9CE4-4E3C-A9CD-E06BC54F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BF56-FD49-4974-B792-B70B2BCB87E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BE4E-141D-447E-AE1B-CB0CBB84756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665280"/>
            <a:ext cx="8229600" cy="2535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495320" y="46479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aghici Andre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33339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876560" y="1599840"/>
            <a:ext cx="3809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Léonard de Vinci né à Vinci le 15 avril 1452 et mort à Amboise le 2 mai 1519, est un peintre italien et un homme d'esprit universel, à la fois artiste, scientifique, ingénieur, inventeur, anatomiste, peintre, sculpteur, architecte, urbaniste, botaniste, musicien, poète, philosophe et écrivai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963720" y="1486080"/>
            <a:ext cx="320040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moured C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1828800" y="2806560"/>
            <a:ext cx="54864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304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Véhicule de Vinci a un certain nombre de canons de lumière disposés sur une plate-forme circulaire avec des roues qui permettent à 360 ° plage. La plate-forme est recouverte par un couvercle de protection à grande (un peu comme une carapace de tortue), renforcé avec des plaques métalliques, qui devait être incliné afin de mieux détourner les tirs ennemis. Il a une tourelle de visée sur le dessus afin de coordonner la mise à feu des canons et la direction du véhicul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114800" y="3733920"/>
            <a:ext cx="38527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48640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e parachut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Book Antiqua"/>
              </a:rPr>
              <a:t>En effet, c’est à lui que revient le mérite d’avoir, le premier conçu scientifiquement un projet de parachute à l’usage de l’homm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28573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28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42040" indent="-27396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Il faudra attendre jusqu’au 22 octobre 1797 pour assister à Paris, au Parc Monceau, au premier saut en parachute, à partir d’une montgolfière, par André Jacques Garnerin qui sauta à 680 mètres d’altitud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Mais c’est bien plus tard, avec l’apparition des premiers avions, au début du 20e siècle que le développement du parachutisme connu son véritable esso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43000" y="4495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5257800" y="4232160"/>
            <a:ext cx="28195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57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057400" y="1587600"/>
            <a:ext cx="492768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ndrei</dc:creator>
  <dc:description/>
  <dc:language>en-US</dc:language>
  <cp:lastModifiedBy>Andrei</cp:lastModifiedBy>
  <dcterms:modified xsi:type="dcterms:W3CDTF">2012-05-08T15:28:32Z</dcterms:modified>
  <cp:revision>5</cp:revision>
  <dc:subject/>
  <dc:title>Inventions   et   Inventeurs</dc:title>
</cp:coreProperties>
</file>